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18013"/>
        <c:axId val="14597224"/>
      </c:barChart>
      <c:catAx>
        <c:axId val="31918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97224"/>
        <c:crosses val="autoZero"/>
        <c:auto val="1"/>
        <c:lblAlgn val="ctr"/>
        <c:lblOffset val="100"/>
        <c:noMultiLvlLbl val="0"/>
      </c:catAx>
      <c:valAx>
        <c:axId val="14597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18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170-DF78-4B15-A6AC-D04E9C75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8A9-954F-4A7B-87F5-146BD8C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0C2-5617-41B6-802C-553EC17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845-EE2D-460B-B794-D496017F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C2E-67D4-4C27-B7ED-666B9929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179-63CE-41B2-94D0-A9761D3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9D5-0D30-4081-922A-917D0C4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B11-2D50-43E0-B37F-DC50979D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30F-E6C7-433E-B23A-2CB7B8E0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7BF-4F8F-4C71-83D3-A179CF53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2AE-B4C9-4E54-B21F-52C8A8F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699-4594-46C0-BCF1-E4971037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ACFB8-EF19-4346-AA35-DDE641328C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