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85013"/>
        <c:axId val="41492804"/>
      </c:barChart>
      <c:catAx>
        <c:axId val="60585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92804"/>
        <c:crosses val="autoZero"/>
        <c:auto val="1"/>
        <c:lblAlgn val="ctr"/>
        <c:lblOffset val="100"/>
        <c:noMultiLvlLbl val="0"/>
      </c:catAx>
      <c:valAx>
        <c:axId val="41492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85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1A7-A9C3-4594-A00C-6D251020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CC3-ADA5-4D99-89EA-697779D2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9C8-B08F-4393-AE04-3F6D0263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BC4-E109-4D4A-AB5D-E9719605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BBA-8E5C-4F0D-84E1-13528064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6DF-CF8C-48AB-B0B3-F7795124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60D-6F28-4637-B6FF-E82B0B63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38E-E3BE-413C-87C6-31C55814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9E5-E047-4655-9CF0-66B1EA59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E16-29C7-43CB-9467-B1C23F4B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D10-A4EA-4A7F-867D-A9F91226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70F-1A1C-4B33-B906-7C8F0CD2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0CBD4-188D-408A-B79E-D5E132AA11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