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761"/>
        <c:axId val="48637393"/>
      </c:barChart>
      <c:catAx>
        <c:axId val="961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37393"/>
        <c:crosses val="autoZero"/>
        <c:auto val="1"/>
        <c:lblAlgn val="ctr"/>
        <c:lblOffset val="100"/>
        <c:noMultiLvlLbl val="0"/>
      </c:catAx>
      <c:valAx>
        <c:axId val="48637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DF1-BF31-4251-9D32-A1883DC2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2E5-4097-440F-94E4-85781C8C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C32-3D9F-419E-93AB-17331D88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CB2-EDBC-4848-A44E-962C2C61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E98-D5AB-45DB-8D23-70906555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026-A104-4BC4-A187-F11206AC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EE3-0E5D-44F9-8F6E-1F6D42D2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909-08BA-47AF-A0BE-471A95C4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D5F-F907-4423-AAD9-4B9FD82D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F1F-AF57-4627-93B0-24D23B0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B67-3ED0-4434-9E84-FB150A91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362-3A68-4282-AD67-CB379F33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BE21E-4D19-42AB-A8CE-36E8F06C74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